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DF31-F44C-4275-A189-0359AF17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32A2F-472C-45D0-A3ED-4360F539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583D9-2BFB-4E3D-81E7-C2BF24E0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0A688-9770-4B55-A989-002FCA48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1555-E39B-4CAE-BA28-222745D8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F48D-F55D-4E3A-9CBE-53806AB7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787-A79B-4F90-AFC1-DDEA1F31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E633-9B2B-4EDD-8C59-7C0DFC5B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AC36-2277-4E6F-A33D-920E0ACF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548-EA71-483D-8697-A3F2351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834-6210-470B-AE7F-77B64F5B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52329-2B04-4080-B2C2-C9424A8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8771-1E2A-49C4-86E9-8EE03B8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B000-5D80-4440-A687-752B2E59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E227-826B-4C8D-89FD-0A8C1B0C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F30-AF56-41DD-80BE-80775FE40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839A-174C-4252-BA67-C5FA6619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AB64B-5897-4412-9AF5-CD0752B8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53815-CCA5-42AA-BC1C-7ABF8DEB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9A14-6879-4D37-8BDF-80D013D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05A3-6811-4045-A30B-EB41397D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8C2C-FADE-49DC-AF78-72F4A36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464F-AFA9-4B08-A8FF-BEB9A004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36ADB-8E84-4D74-B616-B9956CC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BA6-9206-4B6E-A9BD-0E0DD684AD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48CC-6260-4C7D-AE74-F2358B69B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eing a athlete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Jer’Mell Ch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his job ab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play in front of an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layer only play a sport for money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the step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3:19Z</dcterms:created>
  <dc:creator>jermell.chester</dc:creator>
  <dc:description/>
  <dc:language>en-US</dc:language>
  <cp:lastModifiedBy>jermell.chester</cp:lastModifiedBy>
  <dcterms:modified xsi:type="dcterms:W3CDTF">2008-04-25T18:34:41Z</dcterms:modified>
  <cp:revision>2</cp:revision>
  <dc:subject/>
  <dc:title>“Being a athlete”</dc:title>
</cp:coreProperties>
</file>